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E8B-CC63-4A84-AAE9-E843EE8A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C99-C5C6-4AAE-B98D-C845045F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C60-8BA3-4699-9B99-6A125858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287-111A-4329-B620-387BE0C2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18C-DDDC-4E49-B5F3-7C480021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AC5-94CC-4514-8C86-3E2D9F9E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EFF-CAA8-477A-A06D-2A83E85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7C8-9A00-4ABE-BD48-E7E7160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060-F154-42F1-9DAB-9046D733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328-23BF-478B-AFC8-FDD444A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241-4355-4E19-964E-52A0896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733-1BE4-4DD0-B437-D0BC90F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27EE-F91C-457A-B5AD-8AE9F25C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covitmica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080" y="2286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838080"/>
            <a:ext cx="44766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erent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mic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H,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logo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ch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nnwal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pido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covitemica2" descr=""/>
          <p:cNvPicPr/>
          <p:nvPr/>
        </p:nvPicPr>
        <p:blipFill>
          <a:blip r:embed="rId2"/>
          <a:stretch/>
        </p:blipFill>
        <p:spPr>
          <a:xfrm>
            <a:off x="457200" y="3932280"/>
            <a:ext cx="449568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276720"/>
            <a:ext cx="359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provides cleanest and most defect free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muscovite is of the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uscovite V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8280" y="1442880"/>
            <a:ext cx="7867440" cy="397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38160" y="457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of muscovite 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6095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: Daniel J. M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ller, Journal of Structural Biology 119, 172-188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87480" y="803160"/>
            <a:ext cx="258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: Si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: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83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re twin variety from Brazil forms yellow five pointed stars and is called "Star Muscovite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p green variety is called fuchsite and is colored by chromium inpur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eat insulator (oven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22:38Z</dcterms:created>
  <dc:creator>Dionne</dc:creator>
  <dc:description/>
  <dc:language>en-US</dc:language>
  <cp:lastModifiedBy>Dionne</cp:lastModifiedBy>
  <dcterms:modified xsi:type="dcterms:W3CDTF">2003-12-10T16:42:31Z</dcterms:modified>
  <cp:revision>9</cp:revision>
  <dc:subject/>
  <dc:title>PowerPoint Presentation</dc:title>
</cp:coreProperties>
</file>